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40"/>
              </a:solidFill>
              <a:latin typeface="Arial"/>
            </a:endParaRPr>
          </a:p>
        </p:txBody>
      </p:sp>
      <p:sp>
        <p:nvSpPr>
          <p:cNvPr id="47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4" name="PlaceHolder 2"/>
          <p:cNvSpPr>
            <a:spLocks noGrp="1"/>
          </p:cNvSpPr>
          <p:nvPr>
            <p:ph type="dt" idx="22"/>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5" name="PlaceHolder 3"/>
          <p:cNvSpPr>
            <a:spLocks noGrp="1"/>
          </p:cNvSpPr>
          <p:nvPr>
            <p:ph type="sldImg"/>
          </p:nvPr>
        </p:nvSpPr>
        <p:spPr>
          <a:xfrm>
            <a:off x="917280" y="746280"/>
            <a:ext cx="496260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476"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7" name="PlaceHolder 5"/>
          <p:cNvSpPr>
            <a:spLocks noGrp="1"/>
          </p:cNvSpPr>
          <p:nvPr>
            <p:ph type="ftr" idx="23"/>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8" name="PlaceHolder 6"/>
          <p:cNvSpPr>
            <a:spLocks noGrp="1"/>
          </p:cNvSpPr>
          <p:nvPr>
            <p:ph type="sldNum" idx="24"/>
          </p:nvPr>
        </p:nvSpPr>
        <p:spPr>
          <a:xfrm>
            <a:off x="385272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1A87D-07FB-4A12-AF57-86F722317E1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6280"/>
            <a:ext cx="4962600" cy="3720960"/>
          </a:xfrm>
          <a:prstGeom prst="rect">
            <a:avLst/>
          </a:prstGeom>
          <a:ln w="0">
            <a:noFill/>
          </a:ln>
        </p:spPr>
      </p:sp>
      <p:sp>
        <p:nvSpPr>
          <p:cNvPr id="48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13F9-818A-4A98-A19E-4B895312608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6280"/>
            <a:ext cx="4962600" cy="3720960"/>
          </a:xfrm>
          <a:prstGeom prst="rect">
            <a:avLst/>
          </a:prstGeom>
          <a:ln w="0">
            <a:noFill/>
          </a:ln>
        </p:spPr>
      </p:sp>
      <p:sp>
        <p:nvSpPr>
          <p:cNvPr id="48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93DF-C0A3-4257-B10D-F315BC724BA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98C41-66C3-4B4F-9833-E796A2E2A3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02AE4-EB1C-43BD-BA15-03EE26B0B6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4BFFC8A-370F-45F4-B7A6-E169BB3C31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7765DEC-7FE7-456B-B3BF-5243EF3BAF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6DEB3D-322D-45C4-9848-5433CB6FB7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0D72FC-848F-479A-A379-CD8EC2D075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F61594-9087-49B2-A43C-6C3B8EC5508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444EEBD-EEAA-462B-B80E-339409372D7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273E131-F368-43FC-82C4-188EB1A2B3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0375728-8F94-45F6-8E38-9FACBB8686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3CC02E3-9AA7-4662-97CA-EEE5E24C69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FD78E21-749A-4DB2-A377-2BFB889947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6051D-84C5-490E-ACFD-8167850F6E5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8D3483E-1D9D-404B-A8E9-155BC8B657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75EF631-AE5F-45F1-99C5-45790B84394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6A01A1F-FA44-42F2-A796-D17334B911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52FC914-95FB-42E5-B18F-9D332441B6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532E98C-3A41-42C6-B789-710B44C747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B563B9A-A2A4-494D-8B07-AC9A5E1391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82E160F-C5A8-4D13-AC05-2F0871253B5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2A22EC-46F0-4D31-A1F3-DC3961747F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D43D169-4E1E-4EEC-8F43-6E6456F954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12AA03B-EA48-41AF-A81D-C505C5352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01E40-E10F-4296-AF20-1372449F19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0EC08A0-8B13-4DD6-9C1B-14D4787673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1060B0-46E1-4078-8323-BFB4524F9B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62A1AE-6344-4052-A899-495E40F360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8C16C-7A11-4733-9304-F01AF48C9C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1A138-29D0-4145-9560-E065A4144E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B1F26E-8D07-466F-A08B-01B921FDCFE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D9476C-AFE1-46E6-B8A8-F4A1CBAC09C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24AAB-81A2-4A10-9EFE-D6C49BC570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7D744-9575-4B0C-B2F2-DE222D0797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47E08-3138-4C16-9E88-BDAF6D74B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F8F66-9A8C-4E7C-B0C1-A47BBB56512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D69B3-2536-42B5-8E05-9A5151D63ED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5EFB61-932E-4808-8181-EFB4FCEB219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DAFEFD-2135-461D-A011-F1C9208DFC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B0EC-5E67-481E-9607-A0904DE822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05512-9306-4E0D-834A-6EF85A51F6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9FFF-740A-4944-9638-590D26BFFC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931BC-4D3D-4F98-B5E1-1EA749567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0C554-6A7C-4406-978B-3A9C568B6D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BAD5-3018-45DF-9A80-FD7175EF1A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EC877-DE4D-430B-AF0F-9E6C85771C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4889-FD16-42D2-A712-C7B2645F5C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171B5-2B14-4904-9D07-46C649BCD9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993A-650F-4640-A790-63163273E3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CAFBD-44B9-47E2-A2C2-26253FFEB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B837D-C133-4679-8308-11FC9F6D68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9EB650-9B29-4C7F-B314-1D39175BD8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DAE6A-86E1-4BC7-A349-ED2533E905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75283-349B-415D-95E1-41F24167BB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305A34-6266-4DB4-B5D4-CD96CD5A16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23E2A-FE0C-4F34-BB72-473FDCF033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6FB99-E165-4E59-9866-EB59976C032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55B54-CA42-4B7B-A7EE-E85A0B20C30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61FD9-ABEA-40E5-8F54-ABEB989DDB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80E483-DF3C-4D75-B83C-DD52B763B5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E7A60-B5D0-4EBF-9566-F7EC506268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26BF0-ED18-4A11-BF66-2D908AD119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B7D51-F55B-45B9-ACF9-560E4B7A64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3A486-FFDD-4BBF-BF76-49D85219E2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B7707D4-5D99-47ED-B9F1-CD581BBC1C1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6E6D4F-29F3-4DD6-BD7F-EA2D2FDEB5C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317D491-C7E9-4EED-B12F-F3CBA044DE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BBD47-9F09-49DB-8C30-1F80D60521E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232221C-419D-4395-BE36-0DA4BA50DEE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76F88FF-4A9D-42B3-97EC-9D099A04E1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A6674DE-8793-45D1-AC55-DC39B92644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BB7421C-8EF4-42B5-A130-615636CAAE7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9CA03E9-F063-4050-9A54-3BD69EC2F9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58F0936-510C-454E-9CAA-B7B43D85424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D5247B-42C0-46B1-8853-8F84494121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8549BE9-7822-43EB-B553-4E421F1733A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7BDD99E-EDA9-4FAF-A17B-83677412BA7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33CFE3-F941-407B-8C2B-44403D033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sldNum" idx="1"/>
          </p:nvPr>
        </p:nvSpPr>
        <p:spPr/>
        <p:txBody>
          <a:bodyPr/>
          <a:p>
            <a:fld id="{36F4B468-8DAB-4F74-B0D6-4F9F24E032E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AE283-C220-45FB-BF20-D289D22B9EE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8EF3D-850A-4463-8C64-7AF5DE6102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0A11BC-E35F-4B70-8CBE-80A1A98869B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35409-E663-4CC3-B0F3-23B1B2FF02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8F5D1E-9FC9-46A8-AF49-1AD1BA1C028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29FCE-99F5-44E0-B2F9-121D870FA6B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ADDBD-6258-49A0-885F-D2DCAE9C6A6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B9191-9703-470D-865E-56374C820F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2A2F5-2B40-413E-A43A-A464F6A8B5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DAA06D-4207-4AE1-ACBB-4044ACAF1D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2E84343-6F55-48D7-8520-D72479133D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63B748-4058-4265-A857-DBDA6F32C8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045D85-6534-4F97-809A-E2FAA09365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AEC5A2A-87CC-4070-A4A2-C97FF44A718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850771-5887-4229-B1EB-A98D07692C8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D313D6-E9FC-4763-97C4-D647BB4A338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C0E0AC-0C9B-4A5A-9E8F-ECEFCDE7A9F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4932D7-287F-4CFE-81B4-DB7020821CB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8D8446-0D31-492F-898D-2EC01DF930F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87CC12-9708-4FD7-89AA-84E509AAE39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EFE767-05B4-4F16-B766-AEC9A00CA3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8F158-E268-4CF7-971C-C0717F1351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ACAB25-E474-43D7-B102-92FAF6683B8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F6B45E-5EC1-4B75-A4BE-0913358A420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05A4D9-A932-40B0-B70D-7E00C4E3B26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9AC0A42-0BE0-49F4-92CE-6CE0D8A6EAD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9A7D9C5-CAC3-4BC5-BC71-D4BA676052E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5E756B4-7B93-45F6-BE48-8F37E9A9FFA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AEF967A-37B4-475A-BCB0-DD6493ED44B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BB5ACC5-1F66-4361-A8B2-ADA9F723B38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EC22BD5-CF1E-4880-9FDD-5D6E8A038C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34E7BF7-5007-47AC-9E7F-611E22E11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3734E-9BF5-479A-BE0D-1A21C64DA6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20C541-088A-4F0A-911F-C18EA419ED2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6A4CE4-06DB-47EC-83DA-4A123F3EF55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EF615F-653E-4B3C-BAE8-5EF67CA2805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13B8B63-56C7-4EB9-A9BB-C26DCE9C2FB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43E8E5A-3482-49D0-9585-56AD27EF078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690D16-598E-4CD9-BD2B-2085820AFB5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C36320-9C5E-484E-BBC5-0A02E7A4D2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EA8382-72DA-44EE-B7ED-A3465AA209F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D7C07-F9F9-4539-B81E-CEFB8259D5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91A9B-982D-48E6-BB5D-9412C2D16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DEB01-8A79-4F22-85AB-800650CDEC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0D026-3A03-4759-A4D0-04767EA2E5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58079-39C3-45A5-A845-AF9EE17B06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4C0EB-BA7E-4493-9266-7468D2AE7DC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EFE85-3234-462A-BCD9-C11993DC32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809D4A-719D-44A1-B044-F244AB96D6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DBB7E8-AEAD-48A7-B8BF-EBB72DC443A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D7AD4-3D2B-4183-87C1-7E757CA2464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D60BE71-1DCA-46CE-B230-CBF2D3FC6CF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5ECED7-BA89-450E-B880-82D0BC8C67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F39E0D-59E6-4AA8-97F2-4EC8CA4A2F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31" descr="P:\Foto's Pharos\Ppoint\Naamloos 9.bmp"/>
          <p:cNvPicPr/>
          <p:nvPr/>
        </p:nvPicPr>
        <p:blipFill>
          <a:blip r:embed="rId2"/>
          <a:stretch/>
        </p:blipFill>
        <p:spPr>
          <a:xfrm>
            <a:off x="0" y="-1440"/>
            <a:ext cx="9148680" cy="230040"/>
          </a:xfrm>
          <a:prstGeom prst="rect">
            <a:avLst/>
          </a:prstGeom>
          <a:ln w="0">
            <a:noFill/>
          </a:ln>
        </p:spPr>
      </p:pic>
      <p:pic>
        <p:nvPicPr>
          <p:cNvPr id="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 name="Picture 1033" descr="P:\Foto's Pharos\Ppoint\Logo.gif"/>
          <p:cNvPicPr/>
          <p:nvPr/>
        </p:nvPicPr>
        <p:blipFill>
          <a:blip r:embed="rId4"/>
          <a:stretch/>
        </p:blipFill>
        <p:spPr>
          <a:xfrm>
            <a:off x="7315200" y="6107040"/>
            <a:ext cx="1828800" cy="538200"/>
          </a:xfrm>
          <a:prstGeom prst="rect">
            <a:avLst/>
          </a:prstGeom>
          <a:ln w="0">
            <a:noFill/>
          </a:ln>
        </p:spPr>
      </p:pic>
      <p:sp>
        <p:nvSpPr>
          <p:cNvPr id="5" name="PlaceHolder 3"/>
          <p:cNvSpPr>
            <a:spLocks noGrp="1"/>
          </p:cNvSpPr>
          <p:nvPr>
            <p:ph type="sldNum" idx="1"/>
          </p:nvPr>
        </p:nvSpPr>
        <p:spPr>
          <a:xfrm>
            <a:off x="8534520" y="57913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1792-402A-426A-B7EB-F1F1D3916A9E}"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86" name="Picture 1031" descr="P:\Foto's Pharos\Ppoint\Naamloos 9.bmp"/>
          <p:cNvPicPr/>
          <p:nvPr/>
        </p:nvPicPr>
        <p:blipFill>
          <a:blip r:embed="rId2"/>
          <a:stretch/>
        </p:blipFill>
        <p:spPr>
          <a:xfrm>
            <a:off x="0" y="-1440"/>
            <a:ext cx="9148680" cy="230040"/>
          </a:xfrm>
          <a:prstGeom prst="rect">
            <a:avLst/>
          </a:prstGeom>
          <a:ln w="0">
            <a:noFill/>
          </a:ln>
        </p:spPr>
      </p:pic>
      <p:pic>
        <p:nvPicPr>
          <p:cNvPr id="387" name="Picture 1032" descr="P:\Foto's Pharos\Ppoint\Naamloos 9.bmp"/>
          <p:cNvPicPr/>
          <p:nvPr/>
        </p:nvPicPr>
        <p:blipFill>
          <a:blip r:embed="rId3"/>
          <a:stretch/>
        </p:blipFill>
        <p:spPr>
          <a:xfrm>
            <a:off x="-4680" y="6642000"/>
            <a:ext cx="9148680" cy="230400"/>
          </a:xfrm>
          <a:prstGeom prst="rect">
            <a:avLst/>
          </a:prstGeom>
          <a:ln w="0">
            <a:noFill/>
          </a:ln>
        </p:spPr>
      </p:pic>
      <p:pic>
        <p:nvPicPr>
          <p:cNvPr id="388" name="Picture 1033" descr="P:\Foto's Pharos\Ppoint\Logo.gif"/>
          <p:cNvPicPr/>
          <p:nvPr/>
        </p:nvPicPr>
        <p:blipFill>
          <a:blip r:embed="rId4"/>
          <a:stretch/>
        </p:blipFill>
        <p:spPr>
          <a:xfrm>
            <a:off x="7315200" y="6107040"/>
            <a:ext cx="1828800" cy="538200"/>
          </a:xfrm>
          <a:prstGeom prst="rect">
            <a:avLst/>
          </a:prstGeom>
          <a:ln w="0">
            <a:noFill/>
          </a:ln>
        </p:spPr>
      </p:pic>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ftr" idx="1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92" name="PlaceHolder 4"/>
          <p:cNvSpPr>
            <a:spLocks noGrp="1"/>
          </p:cNvSpPr>
          <p:nvPr>
            <p:ph type="sldNum" idx="1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3F22-ADFE-45C3-AF2B-B7C1D4B0855E}"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9" name="Picture 1031" descr="P:\Foto's Pharos\Ppoint\Naamloos 9.bmp"/>
          <p:cNvPicPr/>
          <p:nvPr/>
        </p:nvPicPr>
        <p:blipFill>
          <a:blip r:embed="rId2"/>
          <a:stretch/>
        </p:blipFill>
        <p:spPr>
          <a:xfrm>
            <a:off x="0" y="-1440"/>
            <a:ext cx="9148680" cy="230040"/>
          </a:xfrm>
          <a:prstGeom prst="rect">
            <a:avLst/>
          </a:prstGeom>
          <a:ln w="0">
            <a:noFill/>
          </a:ln>
        </p:spPr>
      </p:pic>
      <p:pic>
        <p:nvPicPr>
          <p:cNvPr id="430" name="Picture 1032" descr="P:\Foto's Pharos\Ppoint\Naamloos 9.bmp"/>
          <p:cNvPicPr/>
          <p:nvPr/>
        </p:nvPicPr>
        <p:blipFill>
          <a:blip r:embed="rId3"/>
          <a:stretch/>
        </p:blipFill>
        <p:spPr>
          <a:xfrm>
            <a:off x="-4680" y="6642000"/>
            <a:ext cx="9148680" cy="230400"/>
          </a:xfrm>
          <a:prstGeom prst="rect">
            <a:avLst/>
          </a:prstGeom>
          <a:ln w="0">
            <a:noFill/>
          </a:ln>
        </p:spPr>
      </p:pic>
      <p:pic>
        <p:nvPicPr>
          <p:cNvPr id="431" name="Picture 1033" descr="P:\Foto's Pharos\Ppoint\Logo.gif"/>
          <p:cNvPicPr/>
          <p:nvPr/>
        </p:nvPicPr>
        <p:blipFill>
          <a:blip r:embed="rId4"/>
          <a:stretch/>
        </p:blipFill>
        <p:spPr>
          <a:xfrm>
            <a:off x="7315200" y="6107040"/>
            <a:ext cx="1828800" cy="538200"/>
          </a:xfrm>
          <a:prstGeom prst="rect">
            <a:avLst/>
          </a:prstGeom>
          <a:ln w="0">
            <a:noFill/>
          </a:ln>
        </p:spPr>
      </p:pic>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ftr" idx="2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35" name="PlaceHolder 4"/>
          <p:cNvSpPr>
            <a:spLocks noGrp="1"/>
          </p:cNvSpPr>
          <p:nvPr>
            <p:ph type="sldNum" idx="2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3E6E-77EF-4843-896F-676118756899}"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1031" descr="P:\Foto's Pharos\Ppoint\Naamloos 9.bmp"/>
          <p:cNvPicPr/>
          <p:nvPr/>
        </p:nvPicPr>
        <p:blipFill>
          <a:blip r:embed="rId2"/>
          <a:stretch/>
        </p:blipFill>
        <p:spPr>
          <a:xfrm>
            <a:off x="0" y="-1440"/>
            <a:ext cx="9148680" cy="230040"/>
          </a:xfrm>
          <a:prstGeom prst="rect">
            <a:avLst/>
          </a:prstGeom>
          <a:ln w="0">
            <a:noFill/>
          </a:ln>
        </p:spPr>
      </p:pic>
      <p:pic>
        <p:nvPicPr>
          <p:cNvPr id="4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4" name="Picture 1033" descr="P:\Foto's Pharos\Ppoint\Logo.gif"/>
          <p:cNvPicPr/>
          <p:nvPr/>
        </p:nvPicPr>
        <p:blipFill>
          <a:blip r:embed="rId4"/>
          <a:stretch/>
        </p:blipFill>
        <p:spPr>
          <a:xfrm>
            <a:off x="7315200" y="6107040"/>
            <a:ext cx="1828800" cy="5382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ftr" idx="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8" name="PlaceHolder 4"/>
          <p:cNvSpPr>
            <a:spLocks noGrp="1"/>
          </p:cNvSpPr>
          <p:nvPr>
            <p:ph type="sldNum" idx="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549A-A1F0-4FC8-B6E7-3E3D273342CF}"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Picture 1031" descr="P:\Foto's Pharos\Ppoint\Naamloos 9.bmp"/>
          <p:cNvPicPr/>
          <p:nvPr/>
        </p:nvPicPr>
        <p:blipFill>
          <a:blip r:embed="rId2"/>
          <a:stretch/>
        </p:blipFill>
        <p:spPr>
          <a:xfrm>
            <a:off x="0" y="-1440"/>
            <a:ext cx="9148680" cy="230040"/>
          </a:xfrm>
          <a:prstGeom prst="rect">
            <a:avLst/>
          </a:prstGeom>
          <a:ln w="0">
            <a:noFill/>
          </a:ln>
        </p:spPr>
      </p:pic>
      <p:pic>
        <p:nvPicPr>
          <p:cNvPr id="86" name="Picture 1032" descr="P:\Foto's Pharos\Ppoint\Naamloos 9.bmp"/>
          <p:cNvPicPr/>
          <p:nvPr/>
        </p:nvPicPr>
        <p:blipFill>
          <a:blip r:embed="rId3"/>
          <a:stretch/>
        </p:blipFill>
        <p:spPr>
          <a:xfrm>
            <a:off x="-4680" y="6642000"/>
            <a:ext cx="9148680" cy="230400"/>
          </a:xfrm>
          <a:prstGeom prst="rect">
            <a:avLst/>
          </a:prstGeom>
          <a:ln w="0">
            <a:noFill/>
          </a:ln>
        </p:spPr>
      </p:pic>
      <p:pic>
        <p:nvPicPr>
          <p:cNvPr id="87" name="Picture 1033" descr="P:\Foto's Pharos\Ppoint\Logo.gif"/>
          <p:cNvPicPr/>
          <p:nvPr/>
        </p:nvPicPr>
        <p:blipFill>
          <a:blip r:embed="rId4"/>
          <a:stretch/>
        </p:blipFill>
        <p:spPr>
          <a:xfrm>
            <a:off x="7315200" y="6107040"/>
            <a:ext cx="1828800" cy="538200"/>
          </a:xfrm>
          <a:prstGeom prst="rect">
            <a:avLst/>
          </a:prstGeom>
          <a:ln w="0">
            <a:noFill/>
          </a:ln>
        </p:spPr>
      </p:pic>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91" name="PlaceHolder 4"/>
          <p:cNvSpPr>
            <a:spLocks noGrp="1"/>
          </p:cNvSpPr>
          <p:nvPr>
            <p:ph type="sldNum" idx="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5541-A3DE-4E70-90CC-991004AE7479}"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8" name="Picture 1031" descr="P:\Foto's Pharos\Ppoint\Naamloos 9.bmp"/>
          <p:cNvPicPr/>
          <p:nvPr/>
        </p:nvPicPr>
        <p:blipFill>
          <a:blip r:embed="rId2"/>
          <a:stretch/>
        </p:blipFill>
        <p:spPr>
          <a:xfrm>
            <a:off x="0" y="-1440"/>
            <a:ext cx="9148680" cy="230040"/>
          </a:xfrm>
          <a:prstGeom prst="rect">
            <a:avLst/>
          </a:prstGeom>
          <a:ln w="0">
            <a:noFill/>
          </a:ln>
        </p:spPr>
      </p:pic>
      <p:pic>
        <p:nvPicPr>
          <p:cNvPr id="129" name="Picture 1032" descr="P:\Foto's Pharos\Ppoint\Naamloos 9.bmp"/>
          <p:cNvPicPr/>
          <p:nvPr/>
        </p:nvPicPr>
        <p:blipFill>
          <a:blip r:embed="rId3"/>
          <a:stretch/>
        </p:blipFill>
        <p:spPr>
          <a:xfrm>
            <a:off x="-4680" y="6642000"/>
            <a:ext cx="9148680" cy="230400"/>
          </a:xfrm>
          <a:prstGeom prst="rect">
            <a:avLst/>
          </a:prstGeom>
          <a:ln w="0">
            <a:noFill/>
          </a:ln>
        </p:spPr>
      </p:pic>
      <p:pic>
        <p:nvPicPr>
          <p:cNvPr id="130" name="Picture 1033" descr="P:\Foto's Pharos\Ppoint\Logo.gif"/>
          <p:cNvPicPr/>
          <p:nvPr/>
        </p:nvPicPr>
        <p:blipFill>
          <a:blip r:embed="rId4"/>
          <a:stretch/>
        </p:blipFill>
        <p:spPr>
          <a:xfrm>
            <a:off x="7315200" y="6107040"/>
            <a:ext cx="1828800" cy="5382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ftr" idx="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34" name="PlaceHolder 4"/>
          <p:cNvSpPr>
            <a:spLocks noGrp="1"/>
          </p:cNvSpPr>
          <p:nvPr>
            <p:ph type="sldNum" idx="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CAA5-4307-4D68-88CE-AFE8FD58797E}"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Picture 1031" descr="P:\Foto's Pharos\Ppoint\Naamloos 9.bmp"/>
          <p:cNvPicPr/>
          <p:nvPr/>
        </p:nvPicPr>
        <p:blipFill>
          <a:blip r:embed="rId2"/>
          <a:stretch/>
        </p:blipFill>
        <p:spPr>
          <a:xfrm>
            <a:off x="0" y="-1440"/>
            <a:ext cx="9148680" cy="230040"/>
          </a:xfrm>
          <a:prstGeom prst="rect">
            <a:avLst/>
          </a:prstGeom>
          <a:ln w="0">
            <a:noFill/>
          </a:ln>
        </p:spPr>
      </p:pic>
      <p:pic>
        <p:nvPicPr>
          <p:cNvPr id="172" name="Picture 1032" descr="P:\Foto's Pharos\Ppoint\Naamloos 9.bmp"/>
          <p:cNvPicPr/>
          <p:nvPr/>
        </p:nvPicPr>
        <p:blipFill>
          <a:blip r:embed="rId3"/>
          <a:stretch/>
        </p:blipFill>
        <p:spPr>
          <a:xfrm>
            <a:off x="-4680" y="6642000"/>
            <a:ext cx="9148680" cy="230400"/>
          </a:xfrm>
          <a:prstGeom prst="rect">
            <a:avLst/>
          </a:prstGeom>
          <a:ln w="0">
            <a:noFill/>
          </a:ln>
        </p:spPr>
      </p:pic>
      <p:pic>
        <p:nvPicPr>
          <p:cNvPr id="173" name="Picture 1033" descr="P:\Foto's Pharos\Ppoint\Logo.gif"/>
          <p:cNvPicPr/>
          <p:nvPr/>
        </p:nvPicPr>
        <p:blipFill>
          <a:blip r:embed="rId4"/>
          <a:stretch/>
        </p:blipFill>
        <p:spPr>
          <a:xfrm>
            <a:off x="7315200" y="6107040"/>
            <a:ext cx="1828800" cy="538200"/>
          </a:xfrm>
          <a:prstGeom prst="rect">
            <a:avLst/>
          </a:prstGeom>
          <a:ln w="0">
            <a:noFill/>
          </a:ln>
        </p:spPr>
      </p:pic>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77" name="PlaceHolder 4"/>
          <p:cNvSpPr>
            <a:spLocks noGrp="1"/>
          </p:cNvSpPr>
          <p:nvPr>
            <p:ph type="sldNum" idx="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0897-6665-4517-AF0F-492C46B56E92}"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4" name="Picture 1031" descr="P:\Foto's Pharos\Ppoint\Naamloos 9.bmp"/>
          <p:cNvPicPr/>
          <p:nvPr/>
        </p:nvPicPr>
        <p:blipFill>
          <a:blip r:embed="rId2"/>
          <a:stretch/>
        </p:blipFill>
        <p:spPr>
          <a:xfrm>
            <a:off x="0" y="-1440"/>
            <a:ext cx="9148680" cy="230040"/>
          </a:xfrm>
          <a:prstGeom prst="rect">
            <a:avLst/>
          </a:prstGeom>
          <a:ln w="0">
            <a:noFill/>
          </a:ln>
        </p:spPr>
      </p:pic>
      <p:pic>
        <p:nvPicPr>
          <p:cNvPr id="215" name="Picture 1032" descr="P:\Foto's Pharos\Ppoint\Naamloos 9.bmp"/>
          <p:cNvPicPr/>
          <p:nvPr/>
        </p:nvPicPr>
        <p:blipFill>
          <a:blip r:embed="rId3"/>
          <a:stretch/>
        </p:blipFill>
        <p:spPr>
          <a:xfrm>
            <a:off x="-4680" y="6642000"/>
            <a:ext cx="9148680" cy="230400"/>
          </a:xfrm>
          <a:prstGeom prst="rect">
            <a:avLst/>
          </a:prstGeom>
          <a:ln w="0">
            <a:noFill/>
          </a:ln>
        </p:spPr>
      </p:pic>
      <p:pic>
        <p:nvPicPr>
          <p:cNvPr id="216" name="Picture 1033" descr="P:\Foto's Pharos\Ppoint\Logo.gif"/>
          <p:cNvPicPr/>
          <p:nvPr/>
        </p:nvPicPr>
        <p:blipFill>
          <a:blip r:embed="rId4"/>
          <a:stretch/>
        </p:blipFill>
        <p:spPr>
          <a:xfrm>
            <a:off x="7315200" y="6107040"/>
            <a:ext cx="1828800" cy="538200"/>
          </a:xfrm>
          <a:prstGeom prst="rect">
            <a:avLst/>
          </a:prstGeom>
          <a:ln w="0">
            <a:noFill/>
          </a:ln>
        </p:spPr>
      </p:pic>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ftr" idx="1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20" name="PlaceHolder 4"/>
          <p:cNvSpPr>
            <a:spLocks noGrp="1"/>
          </p:cNvSpPr>
          <p:nvPr>
            <p:ph type="sldNum" idx="1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EAC7-5FA0-4687-B2BD-12B1255BA2B0}"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Picture 1031" descr="P:\Foto's Pharos\Ppoint\Naamloos 9.bmp"/>
          <p:cNvPicPr/>
          <p:nvPr/>
        </p:nvPicPr>
        <p:blipFill>
          <a:blip r:embed="rId2"/>
          <a:stretch/>
        </p:blipFill>
        <p:spPr>
          <a:xfrm>
            <a:off x="0" y="-1440"/>
            <a:ext cx="9148680" cy="230040"/>
          </a:xfrm>
          <a:prstGeom prst="rect">
            <a:avLst/>
          </a:prstGeom>
          <a:ln w="0">
            <a:noFill/>
          </a:ln>
        </p:spPr>
      </p:pic>
      <p:pic>
        <p:nvPicPr>
          <p:cNvPr id="258" name="Picture 1032" descr="P:\Foto's Pharos\Ppoint\Naamloos 9.bmp"/>
          <p:cNvPicPr/>
          <p:nvPr/>
        </p:nvPicPr>
        <p:blipFill>
          <a:blip r:embed="rId3"/>
          <a:stretch/>
        </p:blipFill>
        <p:spPr>
          <a:xfrm>
            <a:off x="-4680" y="6642000"/>
            <a:ext cx="9148680" cy="230400"/>
          </a:xfrm>
          <a:prstGeom prst="rect">
            <a:avLst/>
          </a:prstGeom>
          <a:ln w="0">
            <a:noFill/>
          </a:ln>
        </p:spPr>
      </p:pic>
      <p:pic>
        <p:nvPicPr>
          <p:cNvPr id="259" name="Picture 1033" descr="P:\Foto's Pharos\Ppoint\Logo.gif"/>
          <p:cNvPicPr/>
          <p:nvPr/>
        </p:nvPicPr>
        <p:blipFill>
          <a:blip r:embed="rId4"/>
          <a:stretch/>
        </p:blipFill>
        <p:spPr>
          <a:xfrm>
            <a:off x="7315200" y="6107040"/>
            <a:ext cx="1828800" cy="538200"/>
          </a:xfrm>
          <a:prstGeom prst="rect">
            <a:avLst/>
          </a:prstGeom>
          <a:ln w="0">
            <a:noFill/>
          </a:ln>
        </p:spPr>
      </p:pic>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ftr" idx="1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63" name="PlaceHolder 4"/>
          <p:cNvSpPr>
            <a:spLocks noGrp="1"/>
          </p:cNvSpPr>
          <p:nvPr>
            <p:ph type="sldNum" idx="1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6A96-6C12-42A4-BA1C-E06E8397CDF1}"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Picture 1031" descr="P:\Foto's Pharos\Ppoint\Naamloos 9.bmp"/>
          <p:cNvPicPr/>
          <p:nvPr/>
        </p:nvPicPr>
        <p:blipFill>
          <a:blip r:embed="rId2"/>
          <a:stretch/>
        </p:blipFill>
        <p:spPr>
          <a:xfrm>
            <a:off x="0" y="-1440"/>
            <a:ext cx="9148680" cy="230040"/>
          </a:xfrm>
          <a:prstGeom prst="rect">
            <a:avLst/>
          </a:prstGeom>
          <a:ln w="0">
            <a:noFill/>
          </a:ln>
        </p:spPr>
      </p:pic>
      <p:pic>
        <p:nvPicPr>
          <p:cNvPr id="301" name="Picture 1032" descr="P:\Foto's Pharos\Ppoint\Naamloos 9.bmp"/>
          <p:cNvPicPr/>
          <p:nvPr/>
        </p:nvPicPr>
        <p:blipFill>
          <a:blip r:embed="rId3"/>
          <a:stretch/>
        </p:blipFill>
        <p:spPr>
          <a:xfrm>
            <a:off x="-4680" y="6642000"/>
            <a:ext cx="9148680" cy="230400"/>
          </a:xfrm>
          <a:prstGeom prst="rect">
            <a:avLst/>
          </a:prstGeom>
          <a:ln w="0">
            <a:noFill/>
          </a:ln>
        </p:spPr>
      </p:pic>
      <p:pic>
        <p:nvPicPr>
          <p:cNvPr id="302" name="Picture 1033" descr="P:\Foto's Pharos\Ppoint\Logo.gif"/>
          <p:cNvPicPr/>
          <p:nvPr/>
        </p:nvPicPr>
        <p:blipFill>
          <a:blip r:embed="rId4"/>
          <a:stretch/>
        </p:blipFill>
        <p:spPr>
          <a:xfrm>
            <a:off x="7315200" y="6107040"/>
            <a:ext cx="1828800" cy="538200"/>
          </a:xfrm>
          <a:prstGeom prst="rect">
            <a:avLst/>
          </a:prstGeom>
          <a:ln w="0">
            <a:noFill/>
          </a:ln>
        </p:spPr>
      </p:pic>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ftr" idx="1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06" name="PlaceHolder 4"/>
          <p:cNvSpPr>
            <a:spLocks noGrp="1"/>
          </p:cNvSpPr>
          <p:nvPr>
            <p:ph type="sldNum" idx="1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BBD0-A760-44E4-B20A-08858EB0960C}"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43" name="Picture 1031" descr="P:\Foto's Pharos\Ppoint\Naamloos 9.bmp"/>
          <p:cNvPicPr/>
          <p:nvPr/>
        </p:nvPicPr>
        <p:blipFill>
          <a:blip r:embed="rId2"/>
          <a:stretch/>
        </p:blipFill>
        <p:spPr>
          <a:xfrm>
            <a:off x="0" y="-1440"/>
            <a:ext cx="9148680" cy="230040"/>
          </a:xfrm>
          <a:prstGeom prst="rect">
            <a:avLst/>
          </a:prstGeom>
          <a:ln w="0">
            <a:noFill/>
          </a:ln>
        </p:spPr>
      </p:pic>
      <p:pic>
        <p:nvPicPr>
          <p:cNvPr id="344" name="Picture 1032" descr="P:\Foto's Pharos\Ppoint\Naamloos 9.bmp"/>
          <p:cNvPicPr/>
          <p:nvPr/>
        </p:nvPicPr>
        <p:blipFill>
          <a:blip r:embed="rId3"/>
          <a:stretch/>
        </p:blipFill>
        <p:spPr>
          <a:xfrm>
            <a:off x="-4680" y="6642000"/>
            <a:ext cx="9148680" cy="230400"/>
          </a:xfrm>
          <a:prstGeom prst="rect">
            <a:avLst/>
          </a:prstGeom>
          <a:ln w="0">
            <a:noFill/>
          </a:ln>
        </p:spPr>
      </p:pic>
      <p:pic>
        <p:nvPicPr>
          <p:cNvPr id="345" name="Picture 1033" descr="P:\Foto's Pharos\Ppoint\Logo.gif"/>
          <p:cNvPicPr/>
          <p:nvPr/>
        </p:nvPicPr>
        <p:blipFill>
          <a:blip r:embed="rId4"/>
          <a:stretch/>
        </p:blipFill>
        <p:spPr>
          <a:xfrm>
            <a:off x="7315200" y="6107040"/>
            <a:ext cx="1828800" cy="538200"/>
          </a:xfrm>
          <a:prstGeom prst="rect">
            <a:avLst/>
          </a:prstGeom>
          <a:ln w="0">
            <a:noFill/>
          </a:ln>
        </p:spPr>
      </p:pic>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ftr" idx="1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49" name="PlaceHolder 4"/>
          <p:cNvSpPr>
            <a:spLocks noGrp="1"/>
          </p:cNvSpPr>
          <p:nvPr>
            <p:ph type="sldNum" idx="1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57DD-FFE6-4E1D-89CE-6BF03AC7B077}"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20640"/>
            <a:ext cx="7772400" cy="568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endParaRPr b="0" lang="en-US" sz="2600" spc="-1" strike="noStrike">
              <a:solidFill>
                <a:srgbClr val="660066"/>
              </a:solidFill>
              <a:latin typeface="Arial"/>
            </a:endParaRPr>
          </a:p>
        </p:txBody>
      </p:sp>
      <p:sp>
        <p:nvSpPr>
          <p:cNvPr id="480" name="Rectangle 4"/>
          <p:cNvSpPr/>
          <p:nvPr/>
        </p:nvSpPr>
        <p:spPr>
          <a:xfrm>
            <a:off x="685800" y="620640"/>
            <a:ext cx="77724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40"/>
                </a:solidFill>
                <a:latin typeface="Arial"/>
              </a:rPr>
              <a:t>Kanker en migranten in de huisartsenpraktijk</a:t>
            </a:r>
            <a:endParaRPr b="0" lang="en-US" sz="4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Kanker bij migranten</a:t>
            </a:r>
            <a:endParaRPr b="0" lang="en-US" sz="4400" spc="-1" strike="noStrike">
              <a:solidFill>
                <a:srgbClr val="660066"/>
              </a:solidFill>
              <a:latin typeface="Arial"/>
            </a:endParaRPr>
          </a:p>
        </p:txBody>
      </p:sp>
      <p:sp>
        <p:nvSpPr>
          <p:cNvPr id="482" name=""/>
          <p:cNvSpPr txBox="1"/>
          <p:nvPr/>
        </p:nvSpPr>
        <p:spPr>
          <a:xfrm>
            <a:off x="685800" y="198108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de traditionele Marokkaanse cultuur is een gezond lichaam een symbool van vruchtbaarheid, schoonheid, en rechtschapenheid. Een zichtbare, slepende ziekte wordt in de samenleving als negatief beschouwd. Die moet je dus proberen te verbergen. Kanker maakt je onrein. </a:t>
            </a:r>
            <a:br>
              <a:rPr sz="2400"/>
            </a:br>
            <a:r>
              <a:rPr b="0" i="1" lang="en-US" sz="2400" spc="-1" strike="noStrike">
                <a:solidFill>
                  <a:srgbClr val="000000"/>
                </a:solidFill>
                <a:latin typeface="Arial"/>
              </a:rPr>
              <a:t>Vanwege deze zienswijze is een patiënt met kanker vaak erg alleen. </a:t>
            </a:r>
            <a:br>
              <a:rPr sz="2400"/>
            </a:br>
            <a:br>
              <a:rPr sz="2400"/>
            </a:br>
            <a:r>
              <a:rPr b="0" i="1" lang="en-US" sz="1200" spc="-1" strike="noStrike">
                <a:solidFill>
                  <a:srgbClr val="000000"/>
                </a:solidFill>
                <a:latin typeface="Arial"/>
              </a:rPr>
              <a:t>Marokkaanse hulpverleenster, bron: VLK rapport, 2010</a:t>
            </a:r>
            <a:br>
              <a:rPr sz="24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at wil ik leren?</a:t>
            </a:r>
            <a:endParaRPr b="0" lang="en-US" sz="4400" spc="-1" strike="noStrike">
              <a:solidFill>
                <a:srgbClr val="660066"/>
              </a:solidFill>
              <a:latin typeface="Arial"/>
            </a:endParaRPr>
          </a:p>
        </p:txBody>
      </p:sp>
      <p:sp>
        <p:nvSpPr>
          <p:cNvPr id="4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is moeilijker of anders bij migranten patiënten met kanker vergeleken bij andere patiënten met ka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is volgens u nodig om migranten patiënten met kanker beter te kunnen hel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lke kennis mist u no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21:14:25Z</dcterms:created>
  <dc:creator>MariaM</dc:creator>
  <dc:description/>
  <dc:language>en-US</dc:language>
  <cp:lastModifiedBy>Marja Exterkate</cp:lastModifiedBy>
  <cp:lastPrinted>2014-05-28T14:12:53Z</cp:lastPrinted>
  <dcterms:modified xsi:type="dcterms:W3CDTF">2014-08-19T09:43:05Z</dcterms:modified>
  <cp:revision>256</cp:revision>
  <dc:subject/>
  <dc:title>Workshop Migrant care,  Refugees and Undocumented migrants  in General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